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6C1-AD61-48ED-8D20-A3436617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1F8-4CA0-41D8-A369-53D9F3B2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9DDE-CAAC-4BB3-BB28-B09E9DDC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CF8D-3447-440C-A72D-1C782866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8AE-765A-42C3-9EE5-9DAF1C3B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7CD-36F1-4066-B17E-AF8B568F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F3A-7DA2-493B-A60A-E332E79D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7A8-F888-4EA2-BDF5-1BE72F62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89C1-C1CA-4A3C-8A22-BCCA8BF4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BC0-696F-4088-AD95-B2C288EC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D1A-C1C4-41A5-A1D9-4940D87E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50B4-E012-488A-849C-20384C24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3352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62320" y="8305560"/>
            <a:ext cx="2133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5288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2013-9F77-4906-A02E-744595379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IEF OFFICE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INING CURRICULUM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1200" y="8534520"/>
            <a:ext cx="5749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9200" y="455760"/>
            <a:ext cx="56322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7162920"/>
            <a:ext cx="579096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ES 9-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2096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733920" y="152280"/>
            <a:ext cx="2608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uary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rot="5400000">
            <a:off x="2245320" y="1531080"/>
            <a:ext cx="18558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 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ruary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TC-OPS-I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263160" y="4881600"/>
            <a:ext cx="59407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ef Officer Training Curriculum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(Modules 9-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03T18:40:38Z</dcterms:created>
  <dc:creator>Debra Martin</dc:creator>
  <dc:description/>
  <dc:language>en-US</dc:language>
  <cp:lastModifiedBy>jboggs</cp:lastModifiedBy>
  <cp:lastPrinted>2003-01-16T17:14:50Z</cp:lastPrinted>
  <dcterms:modified xsi:type="dcterms:W3CDTF">2006-02-08T14:28:51Z</dcterms:modified>
  <cp:revision>35</cp:revision>
  <dc:subject/>
  <dc:title>US&amp;R WMD</dc:title>
</cp:coreProperties>
</file>